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F7B-695B-4D8B-8FC6-6D6CFB42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9E9-092B-404A-94BC-7CD0A1F7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546-8ED2-4573-8A0C-077A5920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AF3-28B5-4E3B-B4BF-8CD24781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9388-9931-4BDF-B3F2-CF03A890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7E58-D72D-4A0E-A1FD-A60B755D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5F4A-224C-427F-BC5B-BE3EE9B5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19AB-2C9F-49F2-9805-83564309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08FA-2FC0-4BE3-8F8E-56BDBEBE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34AD-CF3E-4D4C-B0FA-657A61BC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2629-3477-4665-984D-A0785C19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640-9D13-402D-84B9-511D317D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28F1-0E64-4E35-A8E1-1EA14D8B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622E-D5E4-456C-974B-03ED10BF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5907-D446-43CA-8662-3C673EA3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EA0B-5BE0-4B58-B01A-C3B9A3F3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169C-AD58-46E4-BA21-4A5A93BA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8CE-7F57-4779-8D56-52249AAD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35A6-0B14-45CA-AE9B-625ACD82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A15-B53D-409C-97B2-88BA5495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103-32E5-4313-988B-4A9B6FAE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D06-55CD-49C0-BE61-BA5358C8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552-62CB-4431-88E9-0EB72D48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CF2-E810-4EC7-873B-B2597DD8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70CC-B558-4263-AFF2-EEE0177467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0893-7552-4E2E-A486-0BE85FF74A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ose Rea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196 – “If a man put out an eye of another man, his eye shall be put out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198 – “If he put out the eye of a freed man, he shall pay one gold mina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199 – “If he put out the eye of a man’s slave, he shall pay one-half of its valu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you think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7927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we have law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most important laws that a civilization should ha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66720" y="0"/>
            <a:ext cx="533412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6fd09"/>
                </a:solidFill>
                <a:latin typeface="Tahoma"/>
              </a:rPr>
              <a:t>Hammurabi</a:t>
            </a:r>
            <a:br>
              <a:rPr sz="54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(1792-1750 BC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457200" y="1219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th king of </a:t>
            </a:r>
            <a:r>
              <a:rPr b="0" lang="en-US" sz="2400" spc="-1" strike="noStrike">
                <a:solidFill>
                  <a:srgbClr val="e6fd09"/>
                </a:solidFill>
                <a:latin typeface="Tahoma"/>
              </a:rPr>
              <a:t>Babylonian Empi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expanded it to cover almost all of Mesopotam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28600" y="34290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8" descr="babylon"/>
          <p:cNvPicPr/>
          <p:nvPr/>
        </p:nvPicPr>
        <p:blipFill>
          <a:blip r:embed="rId1"/>
          <a:stretch/>
        </p:blipFill>
        <p:spPr>
          <a:xfrm>
            <a:off x="2857680" y="2895480"/>
            <a:ext cx="6286320" cy="380232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9"/>
          <p:cNvSpPr/>
          <p:nvPr/>
        </p:nvSpPr>
        <p:spPr>
          <a:xfrm>
            <a:off x="380880" y="3352680"/>
            <a:ext cx="2210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gidly centralized system prospered from taxes and tribute – financed state irrigation and building projects (especially fortificati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ammurabi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(1792-1750 BC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ound </a:t>
            </a:r>
            <a:r>
              <a:rPr b="0" lang="en-US" sz="3200" spc="-1" strike="noStrike">
                <a:solidFill>
                  <a:srgbClr val="e6fd09"/>
                </a:solidFill>
                <a:latin typeface="Tahoma"/>
              </a:rPr>
              <a:t>1776 B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stablished a </a:t>
            </a:r>
            <a:r>
              <a:rPr b="1" lang="en-US" sz="3200" spc="-1" strike="noStrike">
                <a:solidFill>
                  <a:srgbClr val="e6fd09"/>
                </a:solidFill>
                <a:latin typeface="Tahoma"/>
              </a:rPr>
              <a:t>Law Code</a:t>
            </a:r>
            <a:r>
              <a:rPr b="1" lang="en-US" sz="32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by he would 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use justice to prevail in the land, to destroy the wicked, and the evil, </a:t>
            </a:r>
            <a:r>
              <a:rPr b="1" lang="en-US" sz="3200" spc="-1" strike="noStrike">
                <a:solidFill>
                  <a:srgbClr val="e6fd09"/>
                </a:solidFill>
                <a:latin typeface="Tahoma"/>
              </a:rPr>
              <a:t>that the strong may not oppress the wea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echnically not the first written law code – Ur Nammu fragments date to 2060 B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26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ammurabi’s Stele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uvre, discovered 1901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5715000" y="0"/>
            <a:ext cx="323388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838080" y="1828800"/>
            <a:ext cx="2895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6fd0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fd09"/>
                </a:solidFill>
                <a:latin typeface="Tahoma"/>
              </a:rPr>
              <a:t>carved on a 7 1/2 foot basalt stele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ircumference of 5’ at top; 6’ at bott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 in city-squares of Babylon – stolen by invaders brought to Sus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6fd0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fd09"/>
                </a:solidFill>
                <a:latin typeface="Tahoma"/>
              </a:rPr>
              <a:t>282 laws, in 49 colum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3886200" y="2362320"/>
            <a:ext cx="2590920" cy="1143000"/>
          </a:xfrm>
          <a:prstGeom prst="wedgeRoundRectCallout">
            <a:avLst>
              <a:gd name="adj1" fmla="val -66606"/>
              <a:gd name="adj2" fmla="val -60972"/>
              <a:gd name="adj3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is Basalt?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y was it carved on thi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9"/>
          <p:cNvSpPr/>
          <p:nvPr/>
        </p:nvSpPr>
        <p:spPr>
          <a:xfrm>
            <a:off x="3809880" y="5181480"/>
            <a:ext cx="2133720" cy="762120"/>
          </a:xfrm>
          <a:prstGeom prst="wedgeRoundRectCallout">
            <a:avLst>
              <a:gd name="adj1" fmla="val -80060"/>
              <a:gd name="adj2" fmla="val -215000"/>
              <a:gd name="adj3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y steal the law code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6095880" y="5486400"/>
            <a:ext cx="28195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do you thin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ws were about?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types of punishm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e give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457200" y="5181480"/>
            <a:ext cx="3276720" cy="1739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ends with a blessing for those that perpetuate the regulations and a curse for those who alter the laws or replace Hammurabi’s n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were the Laws Abou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about </a:t>
            </a:r>
            <a:r>
              <a:rPr b="0" lang="en-US" sz="3200" spc="-1" strike="noStrike">
                <a:solidFill>
                  <a:srgbClr val="e6fd09"/>
                </a:solidFill>
                <a:latin typeface="Tahoma"/>
              </a:rPr>
              <a:t>property righ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fts, contracts, rental agreements, investments, payment for services, inheri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</a:t>
            </a:r>
            <a:r>
              <a:rPr b="0" lang="en-US" sz="3200" spc="-1" strike="noStrike">
                <a:solidFill>
                  <a:srgbClr val="e6fd09"/>
                </a:solidFill>
                <a:latin typeface="Tahoma"/>
              </a:rPr>
              <a:t>religi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ome on </a:t>
            </a:r>
            <a:r>
              <a:rPr b="0" lang="en-US" sz="3200" spc="-1" strike="noStrike">
                <a:solidFill>
                  <a:srgbClr val="e6fd09"/>
                </a:solidFill>
                <a:latin typeface="Tahoma"/>
              </a:rPr>
              <a:t>morally incorrect behavi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dultery, drinking, hitting fath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unishment – “</a:t>
            </a:r>
            <a:r>
              <a:rPr b="0" lang="en-US" sz="4400" spc="-1" strike="noStrike">
                <a:solidFill>
                  <a:srgbClr val="e6fd09"/>
                </a:solidFill>
                <a:latin typeface="Tahoma"/>
              </a:rPr>
              <a:t>Retributiv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196 – “If a man put out an eye of another man, his eye shall be put out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1676520" y="3200400"/>
            <a:ext cx="6629400" cy="1600200"/>
          </a:xfrm>
          <a:prstGeom prst="horizontalScroll">
            <a:avLst>
              <a:gd name="adj" fmla="val 125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at sound like any other early phras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1143000" y="2743200"/>
            <a:ext cx="6858000" cy="3581280"/>
          </a:xfrm>
          <a:prstGeom prst="upArrowCallout">
            <a:avLst>
              <a:gd name="adj1" fmla="val 47878"/>
              <a:gd name="adj2" fmla="val 47874"/>
              <a:gd name="adj3" fmla="val 16667"/>
              <a:gd name="adj4" fmla="val 6666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 Eye for an Eye; A tooth for a tooth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odus 21-23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uteronomy, ch. 19, verse 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rah/Old Testament – written ca. 621 B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cial Distin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fd09"/>
                </a:solidFill>
                <a:latin typeface="Tahoma"/>
              </a:rPr>
              <a:t>Not all classes treated the s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196 – “If a man put out an eye of another man, his eye shall be put out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….#198 – “If he put out the eye of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e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n, he shall pay one gold mina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#199 – “If he put out the eye of a man’s slave, he shall pay one-half of its valu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685800" y="5638680"/>
            <a:ext cx="723888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member his words….“that the strong may not oppress the wea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Do you think he meant it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9112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s-relief of the Ste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154320" cy="429732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9"/>
          <p:cNvSpPr/>
          <p:nvPr/>
        </p:nvSpPr>
        <p:spPr>
          <a:xfrm>
            <a:off x="6095880" y="2057400"/>
            <a:ext cx="1828800" cy="1523880"/>
          </a:xfrm>
          <a:prstGeom prst="wedgeRoundRectCallout">
            <a:avLst>
              <a:gd name="adj1" fmla="val -189842"/>
              <a:gd name="adj2" fmla="val -11458"/>
              <a:gd name="adj3" fmla="val 16667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do you think I a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-4408560" y="310824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AutoShape 11"/>
          <p:cNvSpPr/>
          <p:nvPr/>
        </p:nvSpPr>
        <p:spPr>
          <a:xfrm>
            <a:off x="5867280" y="4343400"/>
            <a:ext cx="2210040" cy="1600200"/>
          </a:xfrm>
          <a:prstGeom prst="wedgeRoundRectCallout">
            <a:avLst>
              <a:gd name="adj1" fmla="val -131967"/>
              <a:gd name="adj2" fmla="val -76486"/>
              <a:gd name="adj3" fmla="val 16667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have the laws been handed down by a go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AutoShape 12"/>
          <p:cNvSpPr/>
          <p:nvPr/>
        </p:nvSpPr>
        <p:spPr>
          <a:xfrm>
            <a:off x="533520" y="4495680"/>
            <a:ext cx="2286000" cy="1143000"/>
          </a:xfrm>
          <a:prstGeom prst="cloudCallout">
            <a:avLst>
              <a:gd name="adj1" fmla="val -27291"/>
              <a:gd name="adj2" fmla="val -70416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, I’m Hammurab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20:54:25Z</dcterms:created>
  <dc:creator> </dc:creator>
  <dc:description/>
  <dc:language>en-US</dc:language>
  <cp:lastModifiedBy>Windows User</cp:lastModifiedBy>
  <dcterms:modified xsi:type="dcterms:W3CDTF">2014-09-30T11:03:22Z</dcterms:modified>
  <cp:revision>17</cp:revision>
  <dc:subject/>
  <dc:title>Did You Know  It’s the Law in New York since 1695</dc:title>
</cp:coreProperties>
</file>